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Futura Md BT"/>
              </a:rPr>
              <a:t>Click to move the slide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AC52-18F2-4F77-8133-A6C5091D8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rdware and 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sonal Computers (P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s are computers that can b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by individuals at home, work, or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ktop models or portable laptop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 to a server in a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: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C Operating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e of the principal differences among computers is the operating system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erating systems enable computers to run software and perform basic task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st personal computers u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 or Macintosh (MacOS) operating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 and MacOS operating systems are not compat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967D-E71C-4F4E-90E0-F1D94D24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2F05-44E3-4755-9751-ACDA9E17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79F0-DC6F-4533-A6BD-B235B74A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5AC4-DF8F-4535-98FE-3E91EB3F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A226-D46A-4004-B46A-91AB57A1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4880-2A72-4E46-B37C-26EA618E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AB51-54C9-42E1-B34E-8CCBBFFB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1146-605E-4ABB-9A3A-29813946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E9C3-97FF-464A-9817-10383067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7062-7A19-4836-9FAE-E9E5D5E9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6139-F82A-4423-9854-78BB675D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B871-A1EF-471A-BB27-726BEEEC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17EF-3C61-487F-BAAA-DF654183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3942-E4C1-47D4-B27F-7A718823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DD77-FCFC-46EC-9365-F32F552A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CB24-4746-4059-A518-01719BBD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416D-29D0-4168-8285-60ECA103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7FA0-46C0-4B36-91FE-FE521CC6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FC1-015F-493D-866C-DB277240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3373-2B44-4ABA-9728-472A6994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F8A9-4131-49C1-A52F-5B3D9CFD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5233-A66D-47C1-9D4B-A6C7BAED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FFA6-2361-47C7-8124-58873637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BB8E-7869-411B-9CA8-CE2714AA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9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30B0-3504-4073-88C5-CA94C58EF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1219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7621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029200" y="60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2057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0384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1634-2132-4D6A-9431-CFE0E11C0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  <a:p>
            <a:pPr lvl="1" marL="443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6680" algn="ctr">
              <a:spcBef>
                <a:spcPts val="49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0200" algn="ctr">
              <a:spcBef>
                <a:spcPts val="3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73720" algn="ctr">
              <a:spcBef>
                <a:spcPts val="24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Futura Md BT"/>
              </a:rPr>
              <a:t>Hardware and Multimedia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8108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hapter 4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Computer Network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n order to exchange files and share resources, computers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 special input and output de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t be part of a network, such a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 area networks (LA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e area networks (WA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Connecting to Network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omputers can be linked to the Internet or a network through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dial-up or broadband connection using a mod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network interface card (NI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rou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Personal Computers (PCs)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Cs are computers that can b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by individuals at home, work, or sch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ktop models or portable laptop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ed to a server in a net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are operating systems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perating systems enable computers to run software and perform basic tasks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PC Operating System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ne of the principal differences among computers is the operating system.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personal computers use Windows or Macintosh (Mac OS) operating system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and Mac OS operating systems are not compatib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is input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Input is any information put into a computer. 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Input Device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ommon input devices ar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boards and keypa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e, trackballs, and touchpa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phones, digital recorders, synthesizers, and musical keybo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gital still cameras, digital camcorders, and Webca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ics tablets and scann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me controll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Futura Md BT"/>
              </a:rPr>
              <a:t>Output Devices</a:t>
            </a:r>
            <a:endParaRPr b="0" lang="en-US" sz="44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utput is any information that a computer produces. Common output devices ar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T or LCD moni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uch screens, plasma displays, LED displays, and projec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k-jet or laser prin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Storage Device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igital storage devices allow you to save your work. Common storage devices ar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d drives, which are built in the compu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ovable storage dis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V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ppy dis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4724280"/>
            <a:ext cx="3581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ip d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Futura Md BT"/>
              </a:rPr>
              <a:t>Processing Components</a:t>
            </a:r>
            <a:endParaRPr b="0" lang="en-US" sz="44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4767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cessing includes all the calculations and other operations a computer performs. It depends on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processors, or ch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entral processing unit (CPU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dom-access memory (RA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480060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03:25:44Z</dcterms:created>
  <dc:creator>LJ</dc:creator>
  <dc:description/>
  <dc:language>en-US</dc:language>
  <cp:lastModifiedBy>GLENCOE</cp:lastModifiedBy>
  <dcterms:modified xsi:type="dcterms:W3CDTF">2003-01-04T00:17:00Z</dcterms:modified>
  <cp:revision>13</cp:revision>
  <dc:subject/>
  <dc:title>Chapter 4 Hardware and Multimedia</dc:title>
</cp:coreProperties>
</file>